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64325" cy="9802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63600" cy="980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A3971-E85F-49C2-AD16-0EC3CF78B8CD}" type="datetime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80920" y="734760"/>
            <a:ext cx="4902480" cy="367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8480" y="4656240"/>
            <a:ext cx="488484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117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4960" y="93117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018DB-14C0-4479-B8D7-3D1A8030320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774960" y="93117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5DD06-52BD-461C-819E-A36B699D5B8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93117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1701A-2CE9-4991-B4AB-18AB7098555D}" type="datetime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902480" cy="367668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66720" y="4656240"/>
            <a:ext cx="532944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360B-6A98-4125-A18A-226C9405B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3DA7-F969-4105-B856-AD26884CB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E127-FFE6-4C0F-9F52-3EA820898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CCB5-ECAF-4590-A193-84D2CD66B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90D2-D785-4BDB-AFF8-983EFBE25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96BE-E43C-47CB-8EF9-AD3CB7B1E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48D6-2E8B-470E-90A0-B425A1F0A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64D6-E415-42B4-8BC9-AE3682804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8504-58A2-4FC1-8121-2A290B825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548A-FEBD-48E5-9FDB-EF20B4814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1F8F-2A64-4672-9892-F6BE34ABC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DD29-DDCC-4188-9AFD-E14EA1F33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3F197-EC4D-45C9-97DF-313C8A32FAD2}" type="datetime"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09320" y="65530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B6334-5806-4F4B-8E8B-BE1854E38BBC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3960" y="33652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Extracted from</a:t>
            </a:r>
            <a:br>
              <a:rPr sz="32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FAI  Amateur-built and Experimental Aircraft Commission  -  CIACA</a:t>
            </a:r>
            <a:br>
              <a:rPr sz="32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480060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31st Plenary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Paris ,  Aero Club de F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March 31st,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08000" y="189000"/>
          <a:ext cx="8926560" cy="597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89000"/>
                    <a:ext cx="8926560" cy="59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4345-7CA0-414B-A7B9-AC1655C0BA6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0BAD9F-7DBC-484E-B503-1792B96F902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51280" y="1700280"/>
            <a:ext cx="2189160" cy="2520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132000" y="4365720"/>
            <a:ext cx="4162680" cy="2163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227640" y="2567160"/>
            <a:ext cx="2541600" cy="1722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79280" y="189000"/>
            <a:ext cx="792180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FAI Gold Air Medal to Jon JOHANSON (Austral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three times round the world (1995,1996,2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both p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8000" y="3092400"/>
            <a:ext cx="39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Times New Roman"/>
              </a:rPr>
              <a:t>www.vansaircraft.com/public/jj-persn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B2E3-7C33-45F2-AEDF-9D6C857C837C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00869C-27BB-4DD7-84EC-75542A13E0D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9640" y="6669000"/>
            <a:ext cx="756144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675640" y="6669000"/>
            <a:ext cx="21744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1701720"/>
            <a:ext cx="84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101080" y="6165720"/>
            <a:ext cx="596880" cy="649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24000" y="0"/>
            <a:ext cx="784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imes New Roman"/>
              </a:rPr>
              <a:t>« The High Flyers Night 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49360"/>
            <a:ext cx="835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Paris, Palais du Luxembourg, 14 October 200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6400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09640" y="22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927840" y="19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77000" y="10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43_High Flyers_m" descr=""/>
          <p:cNvPicPr/>
          <p:nvPr/>
        </p:nvPicPr>
        <p:blipFill>
          <a:blip r:embed="rId2"/>
          <a:stretch/>
        </p:blipFill>
        <p:spPr>
          <a:xfrm>
            <a:off x="2195640" y="884160"/>
            <a:ext cx="5184720" cy="345600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250920" y="4581360"/>
            <a:ext cx="2128680" cy="1634400"/>
            <a:chOff x="250920" y="4581360"/>
            <a:chExt cx="2128680" cy="1634400"/>
          </a:xfrm>
        </p:grpSpPr>
        <p:pic>
          <p:nvPicPr>
            <p:cNvPr id="69" name="42_High Flyers_m" descr=""/>
            <p:cNvPicPr/>
            <p:nvPr/>
          </p:nvPicPr>
          <p:blipFill>
            <a:blip r:embed="rId3"/>
            <a:stretch/>
          </p:blipFill>
          <p:spPr>
            <a:xfrm>
              <a:off x="322200" y="4581360"/>
              <a:ext cx="2057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250920" y="5878440"/>
              <a:ext cx="108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Buzz Aldrin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3598920" y="4437000"/>
            <a:ext cx="1944720" cy="2210400"/>
            <a:chOff x="3598920" y="4437000"/>
            <a:chExt cx="1944720" cy="2210400"/>
          </a:xfrm>
        </p:grpSpPr>
        <p:pic>
          <p:nvPicPr>
            <p:cNvPr id="72" name="40_Centenary Medal_m" descr=""/>
            <p:cNvPicPr/>
            <p:nvPr/>
          </p:nvPicPr>
          <p:blipFill>
            <a:blip r:embed="rId4"/>
            <a:stretch/>
          </p:blipFill>
          <p:spPr>
            <a:xfrm>
              <a:off x="3888000" y="4437000"/>
              <a:ext cx="1314360" cy="19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3598920" y="6310080"/>
              <a:ext cx="194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FAI Centenary Medal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443640" y="4581360"/>
            <a:ext cx="2449440" cy="1634400"/>
            <a:chOff x="6443640" y="4581360"/>
            <a:chExt cx="2449440" cy="1634400"/>
          </a:xfrm>
        </p:grpSpPr>
        <p:pic>
          <p:nvPicPr>
            <p:cNvPr id="75" name="41_High Flyers_m" descr=""/>
            <p:cNvPicPr/>
            <p:nvPr/>
          </p:nvPicPr>
          <p:blipFill>
            <a:blip r:embed="rId5"/>
            <a:stretch/>
          </p:blipFill>
          <p:spPr>
            <a:xfrm>
              <a:off x="6732720" y="4581360"/>
              <a:ext cx="2057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6443640" y="5878440"/>
              <a:ext cx="244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Steve Fossett &amp; Bertrand Piccard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108000" y="6467400"/>
            <a:ext cx="2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685800" y="609480"/>
          <a:ext cx="7772400" cy="5505480"/>
        </p:xfrm>
        <a:graphic>
          <a:graphicData uri="http://schemas.openxmlformats.org/drawingml/2006/table">
            <a:tbl>
              <a:tblPr/>
              <a:tblGrid>
                <a:gridCol w="1492200"/>
                <a:gridCol w="1841400"/>
                <a:gridCol w="3586320"/>
                <a:gridCol w="852480"/>
              </a:tblGrid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Discipl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No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erformanc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érost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ertrand Piccar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r>
                        <a:rPr b="0" lang="fr-FR" sz="900" spc="-1" strike="noStrike" baseline="30000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er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 Tour du monde en ballon+ records altitude et durée en 1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erostation (gaz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F &amp; V Le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ainqueurs de4 coupes Gordon Bennet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stronom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udoin Dollf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viation 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teve Fosset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Tour du monde en ballon  et en avion en solo et sans esca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Espa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alery Poliako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spatial prolongé 437 jours 18 heur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uzz Aldr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1er équipage sur la lu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Giravi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ean Boul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ecord du monde d'altitude en hélic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gral Valérie Andr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Nombreuses missions de sauveta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rachutis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eryl Stear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ultiples records du monde en chute li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rachutis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J Wor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réateur du saut en "free style" et "canopy piloting", organisateur des + grands evenements de parachutisme.  Cascades de James Bo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à Voi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Klaus Ohlman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lusieurs records du monde, dont celui 3000 k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Li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anfred Ruhm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ampion du Monde en 1999 et d’Europe en 1998. + CdM Speedgliding 2003 + record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en planeu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erzy Makul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6 X champion du monde et 2 X d'Europe en voltige planeu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o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av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atherine Maunou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2 fois CdM Volti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av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vetlana Kapani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5 fois CdM Volti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L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ike Blyth + Olivier Aub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lusieurs records du monde et voyages en pendulai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A + 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T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Luc Trullema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outeur des courses en ball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1835280" y="836640"/>
            <a:ext cx="662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24000" y="142704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09960" y="253512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25800" y="30114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22560" y="50706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1125360"/>
            <a:ext cx="777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6FA2-8E64-413F-8681-4B427876BB63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343CCA-6AB7-4281-A32F-9A03CD0433F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66560" y="403560"/>
            <a:ext cx="820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Times New Roman"/>
              </a:rPr>
              <a:t>Lausanne 27/28.August. The EAS was present there to inform about the amateur built section of aviation, the public interest was very high and a lot of interest was generated, we had inside an aircraft under construction (Kitfox) and a Bruegger Colibri, outside in the static display was a Slepcev Storck, a Cherry and a RV-6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658880" y="2276640"/>
            <a:ext cx="5826240" cy="3735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3EC9-C730-47F3-9E0F-7EB18859259A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0CC06E-8E15-4F2B-8355-C4A9F7EA567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ff00"/>
                </a:solidFill>
                <a:latin typeface="Times New Roman"/>
              </a:rPr>
              <a:t>MERCI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00"/>
                </a:solidFill>
                <a:latin typeface="Times New Roman"/>
              </a:rPr>
              <a:t>FAI thanks the Aero Club de France for helping us to celebrate the Centenary in style, and for hosting the CIACA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FDAA-3C33-4C70-A18E-B7FEF6D7EA9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70814C-4143-4AC1-B433-081C3301173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New economic racing class p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roject 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(part of the Bleu Citron progr.)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Presented by Mr. Frédéric Hubschwerlen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34800" y="1197000"/>
            <a:ext cx="4237200" cy="25588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714920" y="1197000"/>
            <a:ext cx="4238640" cy="2560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95280" y="3905280"/>
            <a:ext cx="4176720" cy="25225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4740120" y="3906720"/>
            <a:ext cx="4176720" cy="252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8110-4489-45CC-B380-3ACFC99911B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37BFD2-62A1-49AB-9703-67EE8B3D852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IACA Web S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First experience with the CMS  (From Werner Schneider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we have finally access to add, edit content on the webpage, we can al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add more editors by ourself,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is is a real progr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the first steps were promising (I was able to add some content) 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ierry does this as a course I have not yet all information I wou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like to have but thats just a matter of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ill fated non working database is finally go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CMS is very powerful and does help to align content in a way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web has a corporate design, this is a very good move. We will s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how this develops and I hope the approach to have from each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each year at least one little story to present will make the CIACA W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more ali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0099-C517-4082-A565-E809105A4E1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FA626E-121B-4054-9175-20F77D58EF0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8T16:15:20Z</dcterms:created>
  <dc:creator>UAA15B0</dc:creator>
  <dc:description/>
  <dc:language>en-US</dc:language>
  <cp:lastModifiedBy> </cp:lastModifiedBy>
  <dcterms:modified xsi:type="dcterms:W3CDTF">2006-08-22T13:59:23Z</dcterms:modified>
  <cp:revision>100</cp:revision>
  <dc:subject/>
  <dc:title>Presentazione di PowerPoint</dc:title>
</cp:coreProperties>
</file>